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BC1-6A24-4AA8-8F0C-C30EFC93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87DD-35B0-47FC-8F1F-9C7F565B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DD9-0960-4A66-81C4-DC2DDF6B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5CE-15FF-4E7F-B5C3-D9B65591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13B5-1B95-4750-A870-40041470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576E-02CF-4506-916D-DE5AF03A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9E86-BB8A-4069-AD2C-6DC24405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8244-9369-41D7-8604-FE3A449D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2206-2C40-47B5-BF5F-AAAC719C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D549-E83A-4BFB-AE54-7FE5CE08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F022-637F-4DC6-AEE8-1BEFAE08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C8C-1E42-412C-8E78-3038862F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8BD4-36E4-474F-A0DC-757D097A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2FC0-7A2B-4806-BA6F-AEB7B0AB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C924-1CAB-404E-8B53-947EB4F9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E619-32D9-4B6B-9162-4A25EF35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C116-F85D-468E-B6E3-DDAD7120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BE864-D994-4749-8806-B41FD5E5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B3825-79B2-488A-A4A0-1F4A8FC6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9AE1F-2784-4231-9B95-9D70575A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37C1C-A1A8-48E3-A086-CF64527C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E7873-44B9-4D91-9414-B4E0E2B8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6FD6-EF72-4EC6-AE6C-154145EB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E52A3-BD85-4A76-9458-3572C3C9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E37F1-E936-4501-8DB4-75A97C42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40EA8-9CD2-42AD-B25B-707969EB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E047B-3FE8-49D1-9225-F8018AD9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3FEA1-E0FB-4612-A236-342327B2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6B685-BE32-4CF1-BAC7-F44CAAD9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1820D-6DAF-4BA2-B299-14E1C089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D75D9-243B-40D3-8D9D-FA29D2FF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CDABB-2FDE-4B4E-BC8A-A2DAD92C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DD3B3-0BD4-4EEE-916A-ED483EEE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7AA-AC0F-4D16-B926-EFE73FFB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F105F-629F-45AB-9AC9-BD316FAF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5FCE1-2B12-46F4-95BE-3B30473E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3AC31-B6C2-4C52-B02A-A844EADC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D1409-7763-407D-9B51-C4798EF9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13602-3A0E-4DE3-BD5E-CEB79B80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BF704-337D-46EC-9E96-E741CF04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1A17E-8322-4F02-948F-F6B0B558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38333-394B-43B8-8604-E5503DBF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D42C5-C769-4B8C-9D87-311A912E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4EB50-2C29-4061-AD5C-843F7E79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BB1-0BB8-4AA4-BBC5-2A0745F8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C46F0-C8A0-43B1-B0EA-4B7C6C58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817B8-8F07-4739-A67B-7DFD7366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79128-590F-4F5B-8E7A-754387E6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2EB0B-8F69-4CDA-B93A-440874C3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7B099-FD09-4A0E-899D-0507D985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36CB0-E20D-4B0C-BE61-FCB36CCD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7D751-66D1-4636-BE78-D1B623DA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175BD-E40F-4DE0-8898-53594FF5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3EE2B-D05C-4F23-BB55-D181F121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AC77B-E796-4374-AC01-809A2BA5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634-2B76-4C48-BCAF-49800D31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4BB04-774D-4D0A-AADF-04F9C9C3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F0DED-971B-4840-B7BA-7EB33030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37385-79D1-4022-9622-BBA5D631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61562-0BC8-4E4F-A4F3-676772F1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699AA-80C8-4E8A-8FEB-CFEFF373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A6560-BFD9-4597-90CE-0E86F942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D9F2E-C8E9-4816-8FFC-D2F5EBD2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81ED5-86E1-4109-BF40-FB2F982B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EA1C2-3C91-46CC-9E2A-70A09D51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DB910-8D33-4C16-8D5C-3D026C2F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841-40A7-4027-8F92-91C9F322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5C83E-99A0-4982-9298-2289AA29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7ABBF-1582-4FD6-8C46-584C4E0B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AC743-A2D3-4FD9-BA5B-E65998D1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C756B-27B1-42B1-8795-0E30CD06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2F8A2-7689-45DC-BDEF-53611756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30F69-75F7-4B3E-91DB-C1FF59DC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A147C-E04B-4CBE-AF10-A3994FA3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884DA-3AF7-4995-B5E6-CB2D5323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B2C85-9516-4105-9022-B7D59024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DC9EA-37A3-4542-B86A-5110BC50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76DD-09DD-40E3-87E6-0F924857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C07D8-501B-4138-B6C0-CF642FC3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4BDEF-97DD-4904-8FCC-D9F96CE5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D2B5D-DFC4-4047-B8E3-268CD90B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3CDA5-A206-4EB1-B90F-6A3CBE81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8C3BC-8DC9-4544-8CA4-18BFACC4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37D1-7604-4618-A111-56ECC421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FAAA-FDCD-4A13-BC5B-3FB85C8567F9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B49B-CA47-44BC-AF0F-55815513A9A2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B785-112F-4BFC-B4C1-7715B986152C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ED58-42B1-4C28-9A4E-8DC3A1DF989B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3874-B4FA-46E3-8B6D-3FC1F0089037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7BED-A81B-46F2-9152-D65E3360E903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1FDA-FC65-453E-B39E-C56A1BB7479C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0701-F996-409B-B435-C840EBF9CC1D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9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6C31-8E3C-441A-98F2-2B9BB2A45570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D6F8-97C9-46D3-BA0C-7F4AFB35BC18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22B1-038D-4C83-8635-0388BD080B45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F456-7C80-460F-B804-C43F745559FC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BE94-2969-4FFC-B8F2-4A8DA592EA25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B769-4568-4809-9A95-223DEB47F40D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0323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Corbel"/>
              </a:rPr>
              <a:t>Název školy: Střední zdravotnická škola a vyšší odborná škola zdravotnická Karlovy Vary</a:t>
            </a:r>
            <a:br>
              <a:rPr sz="2200"/>
            </a:br>
            <a:r>
              <a:rPr b="1" lang="cs-CZ" sz="2200" spc="-1" strike="noStrike">
                <a:solidFill>
                  <a:srgbClr val="ffffff"/>
                </a:solidFill>
                <a:latin typeface="Corbel"/>
              </a:rPr>
              <a:t>Číslo projektu: CZ.1.07/1.5.00/34.0953</a:t>
            </a:r>
            <a:br>
              <a:rPr sz="2200"/>
            </a:br>
            <a:r>
              <a:rPr b="1" lang="cs-CZ" sz="2200" spc="-1" strike="noStrike">
                <a:solidFill>
                  <a:srgbClr val="ffffff"/>
                </a:solidFill>
                <a:latin typeface="Arial"/>
              </a:rPr>
              <a:t>Vzdělávací materiál</a:t>
            </a:r>
            <a:r>
              <a:rPr b="1" lang="cs-CZ" sz="22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 Black"/>
              </a:rPr>
              <a:t>Patologická imunita</a:t>
            </a:r>
            <a:br>
              <a:rPr sz="2200"/>
            </a:br>
            <a:r>
              <a:rPr b="1" lang="cs-CZ" sz="2200" spc="-1" strike="noStrike">
                <a:solidFill>
                  <a:srgbClr val="ffffff"/>
                </a:solidFill>
                <a:latin typeface="Corbel"/>
              </a:rPr>
              <a:t>Šablona III/2 Inovace a zkvalitnění výuky prostřednictvím ICT</a:t>
            </a:r>
            <a:br>
              <a:rPr sz="2200"/>
            </a:br>
            <a:r>
              <a:rPr b="1" lang="cs-CZ" sz="2200" spc="-1" strike="noStrike">
                <a:solidFill>
                  <a:srgbClr val="ffffff"/>
                </a:solidFill>
                <a:latin typeface="Corbel"/>
              </a:rPr>
              <a:t>Název materiálu: </a:t>
            </a:r>
            <a:r>
              <a:rPr b="1" lang="cs-CZ" sz="2200" spc="-1" strike="noStrike">
                <a:solidFill>
                  <a:srgbClr val="ffffff"/>
                </a:solidFill>
                <a:latin typeface="Arial Black"/>
              </a:rPr>
              <a:t>VY_32_INOVACE_KLN.2.08</a:t>
            </a:r>
            <a:br>
              <a:rPr sz="2200"/>
            </a:br>
            <a:r>
              <a:rPr b="1" lang="cs-CZ" sz="2200" spc="-1" strike="noStrike">
                <a:solidFill>
                  <a:srgbClr val="ffffff"/>
                </a:solidFill>
                <a:latin typeface="Corbel"/>
              </a:rPr>
              <a:t>Datum tvorby: </a:t>
            </a:r>
            <a:r>
              <a:rPr b="1" lang="cs-CZ" sz="2200" spc="-1" strike="noStrike">
                <a:solidFill>
                  <a:srgbClr val="ffffff"/>
                </a:solidFill>
                <a:latin typeface="Arial Black"/>
              </a:rPr>
              <a:t>23.11.2013</a:t>
            </a:r>
            <a:br>
              <a:rPr sz="2200"/>
            </a:br>
            <a:r>
              <a:rPr b="1" lang="cs-CZ" sz="2200" spc="-1" strike="noStrike">
                <a:solidFill>
                  <a:srgbClr val="ffffff"/>
                </a:solidFill>
                <a:latin typeface="Corbel"/>
              </a:rPr>
              <a:t>Vyučovací předmět, ročník, obor: </a:t>
            </a:r>
            <a:r>
              <a:rPr b="1" lang="cs-CZ" sz="2200" spc="-1" strike="noStrike">
                <a:solidFill>
                  <a:srgbClr val="ffffff"/>
                </a:solidFill>
                <a:latin typeface="Arial Black"/>
              </a:rPr>
              <a:t>KLN, 2. ročník, Nutriční asistent</a:t>
            </a:r>
            <a:br>
              <a:rPr sz="2200"/>
            </a:br>
            <a:r>
              <a:rPr b="1" lang="cs-CZ" sz="2200" spc="-1" strike="noStrike">
                <a:solidFill>
                  <a:srgbClr val="ffffff"/>
                </a:solidFill>
                <a:latin typeface="Corbel"/>
              </a:rPr>
              <a:t>Autor: </a:t>
            </a:r>
            <a:r>
              <a:rPr b="1" lang="cs-CZ" sz="2200" spc="-1" strike="noStrike">
                <a:solidFill>
                  <a:srgbClr val="ffffff"/>
                </a:solidFill>
                <a:latin typeface="Arial Black"/>
              </a:rPr>
              <a:t>Veronika Rausová</a:t>
            </a:r>
            <a:br>
              <a:rPr sz="2200"/>
            </a:br>
            <a:r>
              <a:rPr b="1" lang="cs-CZ" sz="2200" spc="-1" strike="noStrike">
                <a:solidFill>
                  <a:srgbClr val="ffffff"/>
                </a:solidFill>
                <a:latin typeface="Corbel"/>
              </a:rPr>
              <a:t>Anotace: 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Vzdělávací materiál je určen k podpoře výuky předmětu Klinika nemocí v rozsahu jednoho školního roku. Prezentace KLN.2.08 zahrnuje pojmy imunita, patologická imunita, deficit imunity vrozený a získaný a hypersensitivita. Prezentace je zakončena otázkami k zopakování tématu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. </a:t>
            </a:r>
            <a:br>
              <a:rPr sz="2000"/>
            </a:br>
            <a:endParaRPr b="1" lang="en-US" sz="2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971640" y="5105520"/>
            <a:ext cx="640080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468360" y="5157720"/>
            <a:ext cx="813600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AČÁK, Jiří a Jana MAČÁKOVÁ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1. vyd. Praha: Grada, 2004. ISBN 80-247-0785-3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STŘÍTESKÝ, Jan a Petr HALBERSTADT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 pro 2. ročník středních zdravotnických škol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Vyd. 1. Praha: Scientia medica, 1995, 2 sv. ISBN 80-85526-44-11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3355920"/>
            <a:ext cx="8077320" cy="1673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ffc800"/>
                </a:solidFill>
                <a:latin typeface="Corbel"/>
              </a:rPr>
              <a:t>PATOLOGICKÁ IMUNITA</a:t>
            </a:r>
            <a:endParaRPr b="1" lang="en-US" sz="47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Imunita – co to je?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schopnost organismu bránit se proti antigenům pocházejícím jak z vnějšího prostředí, tak z prostředí z pohledu organismu vnitřníh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ANTIGE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ntigen je látka, která navozuje produkci protilátek – může být z vnějšího prostředí a nebo vzniká v těle – např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iry, bakterie, molekuly na povrchu nádorových buněk… </a:t>
            </a:r>
            <a:r>
              <a:rPr b="0" lang="cs-CZ" sz="1700" spc="-1" strike="noStrike">
                <a:solidFill>
                  <a:srgbClr val="000000"/>
                </a:solidFill>
                <a:latin typeface="Corbel"/>
              </a:rPr>
              <a:t>http://cs.wikipedia.org/wiki/Antigen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Jak funguje imunita?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Imunita má 3 obranné linie, z toho první dvě spadají pod nespecifické obranné mechanismy a třetí obranná linie spadá pod specifické obranné mechanismy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rbel"/>
              </a:rPr>
              <a:t>1. obranná lin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 je vnější (externí). Patří sem epiteliální tkáně (kůže a slizniční membrány), které kryjí a vystýlají lidské tělo a brání volnému styku škodlivých bakterií a virů s vnitřním prostředím člověka. Dále sem patří výměšky kůže a slizničních membrá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rbel"/>
              </a:rPr>
              <a:t>2. obranná lin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 je vnitřní (interní). Je spouštěna chemickými signály, které lákají leukocyty k místu, kde je tělo napadeno. Patří sem fagocytární bílé krevní buňky (leukocyty) a antimikrobiální bílkoviny (proteiny), které se bez rozlišení váží na "útočníky", kteří překonali vnější tělesnou bariéru. Následkem této nespecifické obrany vzniká záně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rbel"/>
              </a:rPr>
              <a:t>3. obranná lin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, neboli adaptivní obranná linie, je spouštěna současně s 2. obrannou linií. Odpovídá specifickým způsobem na určité mikroorganismy, nabytečné buňky těla, toxiny, a další cizí molekuly. Patří sem lymfocyty a protilátky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http://cs.wikipedia.org/wiki/Imunita_%28biologie%29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atologická imunita – co to je?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orbel"/>
              </a:rPr>
              <a:t>= 1) Deficit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orbel"/>
              </a:rPr>
              <a:t>= 2) Hypersenzitivní reakce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Deficit imunit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orbel"/>
              </a:rPr>
              <a:t>Vrozen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orbel"/>
              </a:rPr>
              <a:t>SCID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http://juliechromosome19.tripod.com/id4.htm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orbel"/>
              </a:rPr>
              <a:t>Získan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orbel"/>
              </a:rPr>
              <a:t>Sekundárně snížená imunita vyvolaná virovou infekcí, ozařováním, léky, podvýživo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orbel"/>
              </a:rPr>
              <a:t>AIDS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http://www.dr-evans.com/advancedbiology/aids.htm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Hypersenzitivní reakc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rbel"/>
              </a:rPr>
              <a:t>= reakce na antigen, která poškozuje vlastní organismus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orbel"/>
              </a:rPr>
              <a:t>endogenní = alergie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orbel"/>
              </a:rPr>
              <a:t>exogenní =  autoimunita </a:t>
            </a:r>
            <a:r>
              <a:rPr b="0" lang="cs-CZ" sz="2500" spc="-1" strike="noStrike">
                <a:solidFill>
                  <a:srgbClr val="000000"/>
                </a:solidFill>
                <a:latin typeface="Corbel"/>
              </a:rPr>
              <a:t>(poškozování vlastních tkání) (např. DM I. Typu, RS, lupus erythematodes, Gravesova-Basedowova choroba…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rbel"/>
              </a:rPr>
              <a:t>I.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orbel"/>
              </a:rPr>
              <a:t>Typ anafylaktický </a:t>
            </a:r>
            <a:r>
              <a:rPr b="0" lang="cs-CZ" sz="2500" spc="-1" strike="noStrike">
                <a:solidFill>
                  <a:srgbClr val="000000"/>
                </a:solidFill>
                <a:latin typeface="Corbel"/>
              </a:rPr>
              <a:t>(antigen + IgE &gt; otoky, astma, anafylaktický šok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rbel"/>
              </a:rPr>
              <a:t>II.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orbel"/>
              </a:rPr>
              <a:t>Cytotoxický</a:t>
            </a:r>
            <a:r>
              <a:rPr b="0" lang="cs-CZ" sz="2500" spc="-1" strike="noStrike">
                <a:solidFill>
                  <a:srgbClr val="000000"/>
                </a:solidFill>
                <a:latin typeface="Corbel"/>
              </a:rPr>
              <a:t> (zničení struktur nesoucích antigen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rbel"/>
              </a:rPr>
              <a:t>III.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orbel"/>
              </a:rPr>
              <a:t>Imunokomplexový</a:t>
            </a:r>
            <a:r>
              <a:rPr b="0" lang="cs-CZ" sz="2500" spc="-1" strike="noStrike">
                <a:solidFill>
                  <a:srgbClr val="000000"/>
                </a:solidFill>
                <a:latin typeface="Corbel"/>
              </a:rPr>
              <a:t> (místní záněty až nekrózy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orbel"/>
              </a:rPr>
              <a:t>IV: </a:t>
            </a:r>
            <a:r>
              <a:rPr b="0" lang="cs-CZ" sz="2500" spc="-1" strike="noStrike" u="sng">
                <a:solidFill>
                  <a:srgbClr val="000000"/>
                </a:solidFill>
                <a:uFillTx/>
                <a:latin typeface="Corbel"/>
              </a:rPr>
              <a:t>Typ zprostředkovaný buňkami </a:t>
            </a:r>
            <a:r>
              <a:rPr b="0" lang="cs-CZ" sz="2500" spc="-1" strike="noStrike">
                <a:solidFill>
                  <a:srgbClr val="000000"/>
                </a:solidFill>
                <a:latin typeface="Corbel"/>
              </a:rPr>
              <a:t>(nespecifické ničení antigenů i okolních tkání např. při TBC, odhojení transplantátu, kožní kontaktní přecitlivělost…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pakování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ak funguje imunitní systém? Které tkáně a buňky jsou jeho součástí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deficit imunity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Uveďte příklad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hypersensitivita? Uveďte příklad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2T20:50:03Z</dcterms:created>
  <dc:creator>Veronika</dc:creator>
  <dc:description/>
  <dc:language>en-US</dc:language>
  <cp:lastModifiedBy>Chalupna</cp:lastModifiedBy>
  <dcterms:modified xsi:type="dcterms:W3CDTF">2014-03-31T20:52:11Z</dcterms:modified>
  <cp:revision>10</cp:revision>
  <dc:subject/>
  <dc:title>Snímek 1</dc:title>
</cp:coreProperties>
</file>